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70675" cy="9925050"/>
  <p:custShowLst>
    <p:custShow name="定期テスト対策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95D0-C6CA-4153-8B3A-A5EFF34B6D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スライド番号プレースホルダー 1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0FF1-572F-4FD9-ABE2-C304C06E11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スライド番号プレースホルダー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228-FA4C-4F38-89D3-2FBFD51407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1FC-4DC5-4C26-ACA6-F8F1B955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CE-A394-4AE9-92BC-7A0812E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8B6-B497-4F0F-B3FE-18307BA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A75-012B-4A83-8C81-05A653A6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75A6-85DC-49B5-9ECE-4A37589E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8ED-F874-4492-A627-176C849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DE57-240A-4D82-A442-836FFDF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A1F-FCFA-4EBE-B5FA-3882EC0E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451-5A85-480C-B249-58BB2D5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DA6-1C10-46C4-AEFC-EA8B2B25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A8B-2B83-4BEB-949F-A1FD387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2BA-EEED-4BED-A708-05D1C91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F515-F93C-48AF-B357-552FAA9D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2EF-FDA3-4D37-B949-F3B531B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006-1EC3-46A3-9F7A-F542499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C6F-D865-466E-9382-D203E571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E81-FD59-47C9-B935-C9593C19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BD02-0C71-42BC-9946-B4321CC0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46EB-98B3-46AF-BB83-8C0AEE0B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6959-B962-4F78-85BB-F093EFE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1370-9408-4C4A-8AE4-06BD3524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444A-DD54-4D91-9B24-43D9605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752-78AB-41D1-8BDD-FB50508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80E5-A7C6-4033-B502-7B92775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487D-929B-407D-BF9A-92DC678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91DC-93AC-47A2-95B3-7CA7488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8D2F-B205-44B2-82F7-F5FCA27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AC99-EB86-4F8A-AFDF-F4CEFFB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2E54-CC63-4B64-A5E0-9050E402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D386-7D1C-4A02-9201-B5A0E4B2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2EA2-4308-41C4-8F68-00F8F2B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5124-83D6-4D1F-8645-F76B8F4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BF3F-F8CB-4E43-B8CE-4F86B30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42A-7C9F-4F6E-9CB2-EA49164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A05A-F879-4D2F-9930-615FF693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AA76-159F-4040-A03F-3D5D424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6FE08-CFAF-496E-A5D2-FE28B67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F366-4137-4D62-9ACE-772FEB2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6687-9448-4FB4-B76C-F5C03F5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2B98-4821-4620-AF96-E153B3B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D4A5-3F5E-40AD-BCED-697445D0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00E2-88E7-4D4E-997E-1A16A506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EBB3-12D4-4FA6-BF33-06C87B2D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159-E1E1-4C43-9381-CBF14ED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EAD-EB33-41C5-82E8-4D614672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AD0-3627-4834-9CE2-6C8AD60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5E4-A9E5-487C-B415-1771CAD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BB4-3819-49B9-A359-AB89F8F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DF1-2B8F-49CF-823F-07D69A0A43F4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F86-9FE6-421D-81E6-57953D04E10E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0EAB-2790-4EAF-B5B5-A02E624E798B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168-98AE-4121-8D7C-4E0E797B4F98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D84-DB50-43AF-B8C9-C1DECE692655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72360" y="6393960"/>
            <a:ext cx="72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4C8E-2D86-455B-9A22-4FE1BC3F1D54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0C0-9B74-44DF-AB3A-C1B96320835B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3799-DEB9-48F8-B6D8-7D2A69CF1CC1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ssist-web.jp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360" y="2722320"/>
            <a:ext cx="65880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03280" y="4122720"/>
            <a:ext cx="6972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定期テスト対策</a:t>
            </a:r>
            <a:r>
              <a:rPr b="1" lang="en-US" sz="3200" spc="-1" strike="noStrike">
                <a:solidFill>
                  <a:srgbClr val="d1282e"/>
                </a:solidFill>
                <a:latin typeface="Arial Black"/>
              </a:rPr>
              <a:t>1</a:t>
            </a: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日勉強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2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D95-6F76-4936-A940-E80DEACEE72B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26920" y="404640"/>
            <a:ext cx="7250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２．塾の認知度アッ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BE9-FEE3-435C-BB31-D4F6DC7B296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73080" y="1052640"/>
          <a:ext cx="6958080" cy="2733480"/>
        </p:xfrm>
        <a:graphic>
          <a:graphicData uri="http://schemas.openxmlformats.org/drawingml/2006/table">
            <a:tbl>
              <a:tblPr/>
              <a:tblGrid>
                <a:gridCol w="981000"/>
                <a:gridCol w="419400"/>
                <a:gridCol w="419040"/>
                <a:gridCol w="419040"/>
                <a:gridCol w="419040"/>
                <a:gridCol w="419040"/>
                <a:gridCol w="420840"/>
                <a:gridCol w="419040"/>
                <a:gridCol w="419040"/>
                <a:gridCol w="399960"/>
                <a:gridCol w="419400"/>
                <a:gridCol w="419040"/>
                <a:gridCol w="419040"/>
                <a:gridCol w="127080"/>
                <a:gridCol w="419040"/>
                <a:gridCol w="419040"/>
              </a:tblGrid>
              <a:tr h="333360"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講座取得者数と一日勉強会参加者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問い合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で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に参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のみ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加者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年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グラフ 5" descr=""/>
          <p:cNvPicPr/>
          <p:nvPr/>
        </p:nvPicPr>
        <p:blipFill>
          <a:blip r:embed="rId1"/>
          <a:stretch/>
        </p:blipFill>
        <p:spPr>
          <a:xfrm>
            <a:off x="969840" y="4048200"/>
            <a:ext cx="2114640" cy="2004840"/>
          </a:xfrm>
          <a:prstGeom prst="rect">
            <a:avLst/>
          </a:prstGeom>
          <a:ln w="0">
            <a:noFill/>
          </a:ln>
        </p:spPr>
      </p:pic>
      <p:pic>
        <p:nvPicPr>
          <p:cNvPr id="216" name="グラフ 6" descr=""/>
          <p:cNvPicPr/>
          <p:nvPr/>
        </p:nvPicPr>
        <p:blipFill>
          <a:blip r:embed="rId2"/>
          <a:stretch/>
        </p:blipFill>
        <p:spPr>
          <a:xfrm>
            <a:off x="3382920" y="4048200"/>
            <a:ext cx="2116080" cy="2060640"/>
          </a:xfrm>
          <a:prstGeom prst="rect">
            <a:avLst/>
          </a:prstGeom>
          <a:ln w="0">
            <a:noFill/>
          </a:ln>
        </p:spPr>
      </p:pic>
      <p:pic>
        <p:nvPicPr>
          <p:cNvPr id="217" name="グラフ 7" descr=""/>
          <p:cNvPicPr/>
          <p:nvPr/>
        </p:nvPicPr>
        <p:blipFill>
          <a:blip r:embed="rId3"/>
          <a:stretch/>
        </p:blipFill>
        <p:spPr>
          <a:xfrm>
            <a:off x="5797440" y="4048200"/>
            <a:ext cx="2121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26920" y="404640"/>
            <a:ext cx="7250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２．塾の認知度アッ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2.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告知方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①</a:t>
            </a:r>
            <a:r>
              <a:rPr b="1" lang="ja-JP" sz="1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ホームページ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・・　テスト前講座の時期に、講座、日曜勉強会を告知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②のぼり　・・・　当日一日勉強会をやっていることを告知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・塾の存在のアピール　　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・テスト前には塾が一日開いていることのアピール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③門配　・・・　昨年はクリアファイルだったが、今年はボールペン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昨年より門配の回数を増やす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B601-BE74-441F-8AF1-9A9F4521802B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73080" y="3719520"/>
          <a:ext cx="6958080" cy="2733840"/>
        </p:xfrm>
        <a:graphic>
          <a:graphicData uri="http://schemas.openxmlformats.org/drawingml/2006/table">
            <a:tbl>
              <a:tblPr/>
              <a:tblGrid>
                <a:gridCol w="981000"/>
                <a:gridCol w="419400"/>
                <a:gridCol w="419040"/>
                <a:gridCol w="419040"/>
                <a:gridCol w="419040"/>
                <a:gridCol w="419040"/>
                <a:gridCol w="420840"/>
                <a:gridCol w="419040"/>
                <a:gridCol w="419040"/>
                <a:gridCol w="399960"/>
                <a:gridCol w="419400"/>
                <a:gridCol w="419040"/>
                <a:gridCol w="419040"/>
                <a:gridCol w="127080"/>
                <a:gridCol w="419040"/>
                <a:gridCol w="419040"/>
              </a:tblGrid>
              <a:tr h="333360"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講座取得者数と一日勉強会参加者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問い合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で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に参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のみ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加者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年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正方形/長方形 2"/>
          <p:cNvSpPr/>
          <p:nvPr/>
        </p:nvSpPr>
        <p:spPr>
          <a:xfrm>
            <a:off x="2340000" y="4653000"/>
            <a:ext cx="431640" cy="18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26920" y="404640"/>
            <a:ext cx="7250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３．定期テスト対策講座との相乗効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テスト前２～３週間前の平日だけでは、あまり成果を感じさせられなかった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結果が出なくとも、今までより大幅にテスト前の学習時間が増えた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感じさせられる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今まではわからなくて答えを写していた学校のワークに関して、質問ができる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EA0-EA17-4D8F-A021-2F34A9FF36D3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73080" y="3719520"/>
          <a:ext cx="6958080" cy="2733840"/>
        </p:xfrm>
        <a:graphic>
          <a:graphicData uri="http://schemas.openxmlformats.org/drawingml/2006/table">
            <a:tbl>
              <a:tblPr/>
              <a:tblGrid>
                <a:gridCol w="981000"/>
                <a:gridCol w="419400"/>
                <a:gridCol w="419040"/>
                <a:gridCol w="419040"/>
                <a:gridCol w="419040"/>
                <a:gridCol w="419040"/>
                <a:gridCol w="420840"/>
                <a:gridCol w="419040"/>
                <a:gridCol w="419040"/>
                <a:gridCol w="399960"/>
                <a:gridCol w="419400"/>
                <a:gridCol w="419040"/>
                <a:gridCol w="419040"/>
                <a:gridCol w="127080"/>
                <a:gridCol w="419040"/>
                <a:gridCol w="419040"/>
              </a:tblGrid>
              <a:tr h="333360"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講座取得者数と一日勉強会参加者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問い合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で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に参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のみ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加者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年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正方形/長方形 4"/>
          <p:cNvSpPr/>
          <p:nvPr/>
        </p:nvSpPr>
        <p:spPr>
          <a:xfrm>
            <a:off x="3635280" y="4653000"/>
            <a:ext cx="432000" cy="18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5"/>
          <p:cNvSpPr/>
          <p:nvPr/>
        </p:nvSpPr>
        <p:spPr>
          <a:xfrm>
            <a:off x="4859280" y="4653000"/>
            <a:ext cx="433440" cy="18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6"/>
          <p:cNvSpPr/>
          <p:nvPr/>
        </p:nvSpPr>
        <p:spPr>
          <a:xfrm>
            <a:off x="6100920" y="4653000"/>
            <a:ext cx="431640" cy="18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0E1-249F-4723-B540-B43DD40A670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73080" y="3719520"/>
          <a:ext cx="6958080" cy="2733840"/>
        </p:xfrm>
        <a:graphic>
          <a:graphicData uri="http://schemas.openxmlformats.org/drawingml/2006/table">
            <a:tbl>
              <a:tblPr/>
              <a:tblGrid>
                <a:gridCol w="981000"/>
                <a:gridCol w="419400"/>
                <a:gridCol w="419040"/>
                <a:gridCol w="419040"/>
                <a:gridCol w="419040"/>
                <a:gridCol w="419040"/>
                <a:gridCol w="420840"/>
                <a:gridCol w="419040"/>
                <a:gridCol w="419040"/>
                <a:gridCol w="399960"/>
                <a:gridCol w="419400"/>
                <a:gridCol w="419040"/>
                <a:gridCol w="419040"/>
                <a:gridCol w="127080"/>
                <a:gridCol w="419040"/>
                <a:gridCol w="419040"/>
              </a:tblGrid>
              <a:tr h="333360"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講座取得者数と一日勉強会参加者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問い合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で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に参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のみ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加者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年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正方形/長方形 19"/>
          <p:cNvSpPr/>
          <p:nvPr/>
        </p:nvSpPr>
        <p:spPr>
          <a:xfrm>
            <a:off x="7499520" y="4672080"/>
            <a:ext cx="431640" cy="180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正方形/長方形 20"/>
          <p:cNvSpPr/>
          <p:nvPr/>
        </p:nvSpPr>
        <p:spPr>
          <a:xfrm>
            <a:off x="684360" y="620640"/>
            <a:ext cx="792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友人紹介に関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声かけ　・・・　「１日勉強するので、一人だとお昼ご飯とかが寂しいだろうか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友達を誘っても構わない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塾生にも申込用紙を提出させ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友人紹介のきっかけにな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10B-947A-4F1A-95B0-1E04437E765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73080" y="3719520"/>
          <a:ext cx="6958080" cy="2733840"/>
        </p:xfrm>
        <a:graphic>
          <a:graphicData uri="http://schemas.openxmlformats.org/drawingml/2006/table">
            <a:tbl>
              <a:tblPr/>
              <a:tblGrid>
                <a:gridCol w="981000"/>
                <a:gridCol w="419400"/>
                <a:gridCol w="419040"/>
                <a:gridCol w="419040"/>
                <a:gridCol w="419040"/>
                <a:gridCol w="419040"/>
                <a:gridCol w="420840"/>
                <a:gridCol w="419040"/>
                <a:gridCol w="419040"/>
                <a:gridCol w="399960"/>
                <a:gridCol w="419400"/>
                <a:gridCol w="419040"/>
                <a:gridCol w="419040"/>
                <a:gridCol w="127080"/>
                <a:gridCol w="419040"/>
                <a:gridCol w="419040"/>
              </a:tblGrid>
              <a:tr h="333360"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講座取得者数と一日勉強会参加者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問い合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講座受講者で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に参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曜日のみ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加者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増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中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期期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年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正方形/長方形 19"/>
          <p:cNvSpPr/>
          <p:nvPr/>
        </p:nvSpPr>
        <p:spPr>
          <a:xfrm>
            <a:off x="7499520" y="4672080"/>
            <a:ext cx="431640" cy="180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正方形/長方形 20"/>
          <p:cNvSpPr/>
          <p:nvPr/>
        </p:nvSpPr>
        <p:spPr>
          <a:xfrm>
            <a:off x="539640" y="62064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友達を連れてきた生徒と友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純粋に友達と一緒に勉強したかった（友達と勉強会をするような生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普段図書館で勉強している生徒・・・図書館が閉まる時間以降も開い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自分の通っている塾は日曜日にやっていない。集中して勉強できる環境が欲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質問も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9BE-D3A7-4A0F-8216-D314DAC21AD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テキスト ボックス 4"/>
          <p:cNvSpPr/>
          <p:nvPr/>
        </p:nvSpPr>
        <p:spPr>
          <a:xfrm>
            <a:off x="684360" y="404640"/>
            <a:ext cx="77752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まとめと課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１．定期テスト対策講座にどれだけ生徒を集められるかが勝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２．一日勉強会だけに来た人に対してのアピールが弱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・他塾との差別化できる部分をアピール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過去問、予想問題などの配布資料の充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コンテンツを体験させ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３．定期テストの日程次第で、かなりの回数にな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458F-5024-464E-A6D9-792DC9AB7BD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4"/>
          <p:cNvSpPr/>
          <p:nvPr/>
        </p:nvSpPr>
        <p:spPr>
          <a:xfrm>
            <a:off x="755640" y="69228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１．生徒の成績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２．塾の認知度アッ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３．定期テスト対策講座からの入塾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76360" y="4730760"/>
          <a:ext cx="5562720" cy="120024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週間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広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広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対策講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週間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対策講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週間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対策講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テスト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勉強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期テスト対策講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テスト当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26920" y="620280"/>
            <a:ext cx="72504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１．生徒の成績向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1.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時間割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分勉強し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分休憩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昼食→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夕食→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（最大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1" lang="ja-JP" sz="1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2.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内容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申込用紙参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●基本的には面談で先にやることを決めている。（学校配布のワークを何回やるか）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●学校配布のワークをやっている生徒がほとんど。終わった生徒は２周目をやらせる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●学校配布のワークが完璧という生徒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・教科書トレーニング　　・過去問　　　・アシス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3.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費用　無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D48-4AF2-488E-8CF0-AE8A5FBF536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B520-FDC4-487D-9BAB-202A1B5FC54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26920" y="1413000"/>
          <a:ext cx="6096240" cy="1647720"/>
        </p:xfrm>
        <a:graphic>
          <a:graphicData uri="http://schemas.openxmlformats.org/drawingml/2006/table">
            <a:tbl>
              <a:tblPr/>
              <a:tblGrid>
                <a:gridCol w="352440"/>
                <a:gridCol w="658800"/>
                <a:gridCol w="658800"/>
                <a:gridCol w="659160"/>
                <a:gridCol w="660240"/>
                <a:gridCol w="469800"/>
                <a:gridCol w="658800"/>
                <a:gridCol w="658800"/>
                <a:gridCol w="660600"/>
                <a:gridCol w="658800"/>
              </a:tblGrid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年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合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グラフ 8" descr=""/>
          <p:cNvPicPr/>
          <p:nvPr/>
        </p:nvPicPr>
        <p:blipFill>
          <a:blip r:embed="rId1"/>
          <a:stretch/>
        </p:blipFill>
        <p:spPr>
          <a:xfrm>
            <a:off x="1189080" y="3286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直線コネクタ 9"/>
          <p:cNvSpPr/>
          <p:nvPr/>
        </p:nvSpPr>
        <p:spPr>
          <a:xfrm>
            <a:off x="3851280" y="3716280"/>
            <a:ext cx="0" cy="1728720"/>
          </a:xfrm>
          <a:prstGeom prst="line">
            <a:avLst/>
          </a:prstGeom>
          <a:ln w="1260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10"/>
          <p:cNvSpPr/>
          <p:nvPr/>
        </p:nvSpPr>
        <p:spPr>
          <a:xfrm>
            <a:off x="826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93C1-CF0F-4289-8F2D-9C771FEAC86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26920" y="1413000"/>
          <a:ext cx="6096240" cy="1647720"/>
        </p:xfrm>
        <a:graphic>
          <a:graphicData uri="http://schemas.openxmlformats.org/drawingml/2006/table">
            <a:tbl>
              <a:tblPr/>
              <a:tblGrid>
                <a:gridCol w="352440"/>
                <a:gridCol w="658800"/>
                <a:gridCol w="658800"/>
                <a:gridCol w="659160"/>
                <a:gridCol w="660240"/>
                <a:gridCol w="469800"/>
                <a:gridCol w="658800"/>
                <a:gridCol w="658800"/>
                <a:gridCol w="660600"/>
                <a:gridCol w="658800"/>
              </a:tblGrid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年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合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グラフ 6" descr=""/>
          <p:cNvPicPr/>
          <p:nvPr/>
        </p:nvPicPr>
        <p:blipFill>
          <a:blip r:embed="rId1"/>
          <a:stretch/>
        </p:blipFill>
        <p:spPr>
          <a:xfrm>
            <a:off x="1189080" y="3286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直線コネクタ 8"/>
          <p:cNvSpPr/>
          <p:nvPr/>
        </p:nvSpPr>
        <p:spPr>
          <a:xfrm>
            <a:off x="3851280" y="3716280"/>
            <a:ext cx="0" cy="1728720"/>
          </a:xfrm>
          <a:prstGeom prst="line">
            <a:avLst/>
          </a:prstGeom>
          <a:ln w="1260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9"/>
          <p:cNvSpPr/>
          <p:nvPr/>
        </p:nvSpPr>
        <p:spPr>
          <a:xfrm>
            <a:off x="826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く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505-1EB0-4449-AC79-DD4AD237AF9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413000"/>
          <a:ext cx="6096240" cy="1647720"/>
        </p:xfrm>
        <a:graphic>
          <a:graphicData uri="http://schemas.openxmlformats.org/drawingml/2006/table">
            <a:tbl>
              <a:tblPr/>
              <a:tblGrid>
                <a:gridCol w="352440"/>
                <a:gridCol w="658800"/>
                <a:gridCol w="658800"/>
                <a:gridCol w="659160"/>
                <a:gridCol w="660240"/>
                <a:gridCol w="469800"/>
                <a:gridCol w="658800"/>
                <a:gridCol w="658800"/>
                <a:gridCol w="660600"/>
                <a:gridCol w="658800"/>
              </a:tblGrid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年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  <a:tr h="2044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  <a:tr h="206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  <a:tr h="206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合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3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de61"/>
                    </a:solidFill>
                  </a:tcPr>
                </a:tc>
              </a:tr>
            </a:tbl>
          </a:graphicData>
        </a:graphic>
      </p:graphicFrame>
      <p:pic>
        <p:nvPicPr>
          <p:cNvPr id="200" name="グラフ 7" descr=""/>
          <p:cNvPicPr/>
          <p:nvPr/>
        </p:nvPicPr>
        <p:blipFill>
          <a:blip r:embed="rId1"/>
          <a:stretch/>
        </p:blipFill>
        <p:spPr>
          <a:xfrm>
            <a:off x="1189080" y="3286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1" name="直線コネクタ 8"/>
          <p:cNvSpPr/>
          <p:nvPr/>
        </p:nvSpPr>
        <p:spPr>
          <a:xfrm>
            <a:off x="3851280" y="3716280"/>
            <a:ext cx="0" cy="1728720"/>
          </a:xfrm>
          <a:prstGeom prst="line">
            <a:avLst/>
          </a:prstGeom>
          <a:ln w="1260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テキスト ボックス 9"/>
          <p:cNvSpPr/>
          <p:nvPr/>
        </p:nvSpPr>
        <p:spPr>
          <a:xfrm>
            <a:off x="826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643-D88B-447A-A0E2-419D5AB7CB3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4"/>
          <p:cNvSpPr/>
          <p:nvPr/>
        </p:nvSpPr>
        <p:spPr>
          <a:xfrm>
            <a:off x="503280" y="54936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70c0"/>
                </a:solidFill>
                <a:latin typeface="Arial"/>
              </a:rPr>
              <a:t>１．生徒の成績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生徒の変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参加前　・・・　昼食、夕食を含めて、１日塾で勉強するということに抵抗はあっ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・面談により、一人ひとりを説得して参加させ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参加後　・・・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目以降は、抵抗なく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・昼食などを友達同士で食べに行ったり、意外と楽し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・成績の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・提出期限のある学校のワークが終わっていなくても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この日に一気に終わらせ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・一日勉強会はありますよね？と確認されるくらい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無いと困ると感じる生徒も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・部活等、特別な予定が無い限り、全員参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26920" y="404640"/>
            <a:ext cx="7250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２．塾の認知度アッ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．現状の認知度に関し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常盤平校　・・・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年経過して認知度がある。のぼりなどを出さなくても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塾があることは知られている塾である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→そんなことはない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近年の全国平均転居率は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％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な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な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日曜勉強会に友達が来た際、どこだか知らないからマクドナルドの前のレン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の建物と伝えておいた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結局見つからずに、友達を道の反対側まで迎えに行った。）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自分の塾の場所を尋ねる実験をするとい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51D-5CFF-4D99-ADBE-7769CC63978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図 3" descr=""/>
          <p:cNvPicPr/>
          <p:nvPr/>
        </p:nvPicPr>
        <p:blipFill>
          <a:blip r:embed="rId1"/>
          <a:stretch/>
        </p:blipFill>
        <p:spPr>
          <a:xfrm>
            <a:off x="284040" y="3191040"/>
            <a:ext cx="8336160" cy="3182760"/>
          </a:xfrm>
          <a:prstGeom prst="rect">
            <a:avLst/>
          </a:prstGeom>
          <a:ln w="0">
            <a:noFill/>
          </a:ln>
        </p:spPr>
      </p:pic>
      <p:sp>
        <p:nvSpPr>
          <p:cNvPr id="208" name="楕円 1"/>
          <p:cNvSpPr/>
          <p:nvPr/>
        </p:nvSpPr>
        <p:spPr>
          <a:xfrm>
            <a:off x="7164360" y="4292640"/>
            <a:ext cx="432000" cy="14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楕円 5"/>
          <p:cNvSpPr/>
          <p:nvPr/>
        </p:nvSpPr>
        <p:spPr>
          <a:xfrm>
            <a:off x="8244000" y="4289400"/>
            <a:ext cx="431640" cy="14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920" y="404640"/>
            <a:ext cx="7250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Arial"/>
              </a:rPr>
              <a:t>２．塾の認知度アッ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．現状の認知度に関し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常盤平校　・・・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年経過して認知度がある。のぼりなどを出さなくても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塾があることは知られている塾である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→そんなことはない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近年の全国平均転居率は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％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な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な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日曜勉強会に友達が来た際、どこだか知らないからマクドナルドの前のレン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の建物と伝えておいた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結局見つからずに、友達を道の反対側まで迎えに行った。）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・自分の塾の場所を尋ねる実験をするとい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E84C-90C6-4600-B76B-4E2A541706F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瀬間郁暁</cp:lastModifiedBy>
  <cp:lastPrinted>2018-01-22T06:00:25Z</cp:lastPrinted>
  <dcterms:modified xsi:type="dcterms:W3CDTF">2018-01-23T09:31:50Z</dcterms:modified>
  <cp:revision>714</cp:revision>
  <dc:subject/>
  <dc:title>第１回　Assist勉強会</dc:title>
</cp:coreProperties>
</file>